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FE2F-87E2-463F-8935-68D7ACEA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52FF-947C-40B0-AD88-785511DB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4BD3-C126-4696-A874-58FB6E17C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0F31-7339-4370-AE68-16D986CF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38A8-C953-48A1-91B2-EEAA9E4A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9E7E-0BC8-4874-9C50-746D1EC8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FDE5-44ED-4CEA-B40F-A6E1830A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09BD-C36F-48BF-A0BF-DC870E1F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07CF-E3D4-4E04-9B19-2EB7579D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0713-94C3-42FB-968B-34E60A44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658C-BEB5-4368-9203-2FB2B158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AA2F-A4AF-4AF7-A3C1-5B24BBB3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7C2E-BDD7-4539-B052-1A3653354034}" type="slidenum">
              <a:rPr b="0" lang="en-GB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eewiki.newint.org/index.php/Protecting_the_planet_against_climate_change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1206360"/>
            <a:ext cx="7772400" cy="3975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076360" y="2020320"/>
            <a:ext cx="14292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7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4371840" y="4869000"/>
            <a:ext cx="2360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itle 1" descr=""/>
          <p:cNvPicPr/>
          <p:nvPr/>
        </p:nvPicPr>
        <p:blipFill>
          <a:blip r:embed="rId1"/>
          <a:stretch/>
        </p:blipFill>
        <p:spPr>
          <a:xfrm>
            <a:off x="249120" y="49320"/>
            <a:ext cx="8645760" cy="1150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23640" y="836640"/>
            <a:ext cx="8569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painting mountains whit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developing houses that float on water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texting warning of bad weather to fishermen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putting air-conditioning in bus stop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painting roof gardens whit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lending money to help people after disaster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giving free bottles of water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planting more tree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fighting against dengu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improving the soil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(check your answers in the infographic on the next slide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47" name="Content Placeholder 3" descr=""/>
          <p:cNvPicPr/>
          <p:nvPr/>
        </p:nvPicPr>
        <p:blipFill>
          <a:blip r:embed="rId1"/>
          <a:stretch/>
        </p:blipFill>
        <p:spPr>
          <a:xfrm>
            <a:off x="-23760" y="77760"/>
            <a:ext cx="921528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2077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2492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eewiki.newint.org/index.php/Protecting_the_planet_against_climate_chan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5148360" y="3836880"/>
            <a:ext cx="324000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19:41:30Z</dcterms:created>
  <dc:creator>Linda Ruas</dc:creator>
  <dc:description/>
  <dc:language>en-US</dc:language>
  <cp:lastModifiedBy>Linda Ruas</cp:lastModifiedBy>
  <dcterms:modified xsi:type="dcterms:W3CDTF">2014-05-26T20:08:22Z</dcterms:modified>
  <cp:revision>3</cp:revision>
  <dc:subject/>
  <dc:title>Quiz about climate change: what are countries doing to “climate-proof” the planet?</dc:title>
</cp:coreProperties>
</file>